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C010-BAD3-4A8E-8702-937620F83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5618-B0F4-4211-ACAF-C2DC2E306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2561-8A57-485E-9E99-85F94D65B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F83A-E18A-4735-B203-0EF40A25C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BB37-C158-48C6-A7CE-6215722BC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033B-3F7A-45D4-9AFA-CB76CCCD6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50CD-EBC7-4E66-B5C3-55AB26F0A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5AFC-ABBC-496A-A29D-987A4841E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C507-B8F7-4C10-912A-CE9F26C1F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AA8E-F26F-4108-88A1-7EAC0000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4EE1-EF39-415E-B10D-7B62CB6BF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F32E-CD00-41FC-BFDA-5B568DCDA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E2703-9453-414F-93B2-4FD4F29659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Anxiety Disorder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ule 30: Anxiety and Mood Disor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cial Phob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bias which produce fear in social situ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ear of speaking in publ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oraphob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ear of situations the person views as difficult to escape fr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ear of leaving one’s home or room in the ho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sessive-Compulsive Disor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anxiety disorder characterized by unwanted, repetitive thoughts and 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bsessions – repetitive though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pulsions – repetitive 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obsessions/compulsions begin to take control of the person’s lif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Blair-Broeker_table"/>
          <p:cNvPicPr/>
          <p:nvPr/>
        </p:nvPicPr>
        <p:blipFill>
          <a:blip r:embed="rId1"/>
          <a:stretch/>
        </p:blipFill>
        <p:spPr>
          <a:xfrm>
            <a:off x="0" y="0"/>
            <a:ext cx="9144000" cy="67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sttraumatic Stress Disor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anxiety disorder characterized by reliving a severely upsetting event in unwanted recurring memories (flashbacks) and dre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ological F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reditary factors may result in a predisposition for developing anxiety disor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rain functions appear to be different in an anxiety disorder pati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ary factors may lead to anxiety disorde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rain and OC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Blair-Broeker_fig"/>
          <p:cNvPicPr/>
          <p:nvPr/>
        </p:nvPicPr>
        <p:blipFill>
          <a:blip r:embed="rId1"/>
          <a:stretch/>
        </p:blipFill>
        <p:spPr>
          <a:xfrm>
            <a:off x="457200" y="1295280"/>
            <a:ext cx="8305920" cy="50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rning F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rough classical conditioning people may associate fear with an objec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bservational learning--watching another experiencing fearfulness--may result in developing fe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ear of an object may be reinforced when by avoiding the feared objec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Mood Disorder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ule 30: Anxiety and Mood Disor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od Disor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assification of disorders where there is a disturbance in the person’s emo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jor types of mood disorders includ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jor Depressive Dis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ipolar Dis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ysthymic Dis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xiety and Anxiety Disor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48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xiety: Vague feeling of apprehension or nervous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xiety disorder: where anxiety begins to take control and dominate a person’s l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Blair-Broeker_30UN01"/>
          <p:cNvPicPr/>
          <p:nvPr/>
        </p:nvPicPr>
        <p:blipFill>
          <a:blip r:embed="rId1"/>
          <a:stretch/>
        </p:blipFill>
        <p:spPr>
          <a:xfrm>
            <a:off x="6019920" y="1828800"/>
            <a:ext cx="265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Blair-Broeker_fig"/>
          <p:cNvPicPr/>
          <p:nvPr/>
        </p:nvPicPr>
        <p:blipFill>
          <a:blip r:embed="rId1"/>
          <a:stretch/>
        </p:blipFill>
        <p:spPr>
          <a:xfrm>
            <a:off x="228600" y="1828800"/>
            <a:ext cx="8686800" cy="34923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od Disor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riod of abnormally high emotion and a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p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tended period of feeling sad, listless, and drained of ener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 Depressive Disor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mood disorder in which a person, for no apparent reason, experiences at least two weeks o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ressed mood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minished interest in activities,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symptoms, such as feelings of worthless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polar Disor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mood disorder in which the person alternates between the hopelessness of depression and the overexcited and unreasonably optimistic state of ma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merly called manic-depressive dis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ny times will follow a cyclical patte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ological F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od disorders have a hereditary nature to the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pressed individuals tend to have depressed brai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T scans indicate less activity during periods of depress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opolar Disorder PET Sc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Blair-Broeker_fig"/>
          <p:cNvPicPr/>
          <p:nvPr/>
        </p:nvPicPr>
        <p:blipFill>
          <a:blip r:embed="rId1"/>
          <a:stretch/>
        </p:blipFill>
        <p:spPr>
          <a:xfrm>
            <a:off x="0" y="1933560"/>
            <a:ext cx="914400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cial-Cognitive F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pression may be a variation of learned helplessnes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pressed individuals attribute events using the following characteristic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ble: the bad situation will last for a long 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ernal: they are at fa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lobal: all of life is b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Blair-Broeker_fig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30621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tribution and Dep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ermination of M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Blair-Broeker_fig"/>
          <p:cNvPicPr/>
          <p:nvPr/>
        </p:nvPicPr>
        <p:blipFill>
          <a:blip r:embed="rId1"/>
          <a:stretch/>
        </p:blipFill>
        <p:spPr>
          <a:xfrm>
            <a:off x="152280" y="1219320"/>
            <a:ext cx="883944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Anxiety Disor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xiety disorders are divided int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eneralized Anxiety Dis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nic Dis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b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bsessive-Compulsive Dis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sttraumatic Stress Dis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Blair-Broeker_fig"/>
          <p:cNvPicPr/>
          <p:nvPr/>
        </p:nvPicPr>
        <p:blipFill>
          <a:blip r:embed="rId1"/>
          <a:stretch/>
        </p:blipFill>
        <p:spPr>
          <a:xfrm>
            <a:off x="0" y="1271520"/>
            <a:ext cx="9144000" cy="5586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xiety Disor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lized Anxiety Disor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anxiety disorder characterized by disruptive levels of persistent, unexplained feelings of apprehension and tense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mptoms of Generalized Anxi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ust have at least three of the following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tless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eeling on ed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fficulty concentrating/mind going bla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rrita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uscle Te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leep Disturb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nic Disor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anxiety disorder characterized by sudden bouts of intense, unexplained anxi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ften associated with physical symptoms like choking sensations or shortness of brea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nic attacks may happen several times a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ob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anxiety disorder characterized by disruptive, irrational fears of specific objects or situ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fear must be both irrational and disruptiv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Blair-Broeker_table"/>
          <p:cNvPicPr/>
          <p:nvPr/>
        </p:nvPicPr>
        <p:blipFill>
          <a:blip r:embed="rId1"/>
          <a:stretch/>
        </p:blipFill>
        <p:spPr>
          <a:xfrm>
            <a:off x="1828800" y="0"/>
            <a:ext cx="5486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1T02:17:26Z</dcterms:created>
  <dc:creator>Home</dc:creator>
  <dc:description/>
  <dc:language>en-US</dc:language>
  <cp:lastModifiedBy>Meghan Reilly</cp:lastModifiedBy>
  <dcterms:modified xsi:type="dcterms:W3CDTF">2011-11-17T16:34:03Z</dcterms:modified>
  <cp:revision>56</cp:revision>
  <dc:subject/>
  <dc:title>Psychology</dc:title>
</cp:coreProperties>
</file>